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5EB-D57C-4063-AADA-BF2CDE2D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D46-65C2-45E1-A9D0-67232CDD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787-386D-4615-955E-CB836205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839-A3A8-4B57-BA1E-62456299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ADF-57D3-4DA0-9FE9-100A9284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E28-B89D-4BFE-8FCD-78D04E5C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349-36C2-4E86-9BB4-2E48A776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B19-83C1-4D46-AF6E-51BD9E4D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62A-55F6-47FD-B6DB-0AFE27B0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1F5-F8AD-4766-B8DD-90F1DC0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63E-A0DC-4700-AE54-487D3063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6FA-3880-406D-8D54-8FED11C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9E52-4C68-4714-AA1E-B793C0A83EC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Falcon development cos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/05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development cos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alcon is a class 2 devic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RD Cost is 17 % below Class 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Overall Cost is 15 % below Class 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Conclusion: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Adjustment ST tbd. according request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Significant reduction of development cost must include reduction of feature changes compared to Kestrel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HW Changes compared to Kestre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New HW Featur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3,2Mpix 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display with lager main and sub pan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2nd speaker and stereo sou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FM 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Involving Chang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antenna design, incl. BT antenn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New position of IO connector and vib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ange of FPC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ange of PCB, incl. new layout and routing of BB and RF (Design and layout changes + DTC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F conducted and RF radiated behavior (incl. BT) will chan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Conclusion: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Minion"/>
              </a:rPr>
              <a:t>Falcon is at least a class II devic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010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alcon SW Changes compared to Kestre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New SW Featur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Stereo Concept (ASP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M Radio also on outer display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ture Chang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river adaptations for 3,2 Mpix camera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Driver adaptations for new display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MMI changes for came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General: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Ongoing bug fixing in all areas (esp. after operator request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per 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8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compared to Class 2 [€]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990720"/>
          <a:ext cx="8305560" cy="532080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383840"/>
                <a:gridCol w="1384200"/>
                <a:gridCol w="1384200"/>
                <a:gridCol w="138456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l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131.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517.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87.5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265.5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.601.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las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470.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438.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069.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562.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.54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38.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9.4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81.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97.2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938.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3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1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development cost compared to Class 2 [€]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990720"/>
          <a:ext cx="8305920" cy="5321160"/>
        </p:xfrm>
        <a:graphic>
          <a:graphicData uri="http://schemas.openxmlformats.org/drawingml/2006/table">
            <a:tbl>
              <a:tblPr/>
              <a:tblGrid>
                <a:gridCol w="1384560"/>
                <a:gridCol w="1384200"/>
                <a:gridCol w="1278000"/>
                <a:gridCol w="1368360"/>
                <a:gridCol w="1368360"/>
                <a:gridCol w="152244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C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er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lc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.601.9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86.9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664.9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.151.9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.753.8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lass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.540.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543.5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.890.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.433.7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.973.8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938.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56.6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25.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281.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.219.9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elta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1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ST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28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Falcon Efforts SWM compared to Project Class 2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981000"/>
          <a:ext cx="82087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8208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2T06:27:24Z</dcterms:modified>
  <cp:revision>139</cp:revision>
  <dc:subject/>
  <dc:title>PowerPoint 簡報</dc:title>
</cp:coreProperties>
</file>